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B9B-BE13-4021-8126-54690D54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DB7-B6CF-431C-988A-C030E6C1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45E-AE0A-4F05-AD11-6356B3D5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DAB-C8DA-416E-AE80-9BBCCFB0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DC28-617B-47C4-96A0-98902C8C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A577-D0E0-4CC4-9CC4-C8E7EE6D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2393-B87A-4824-BEBB-75F3FBAB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50A5-D56D-43AA-9D56-0C4326BA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7D1A-5983-40E1-896E-92436A2D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CE78-056C-436F-92E8-3E47A275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FC31-D236-4B53-83E7-2BB95B3F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F40-C4AB-4FA9-B00C-FD6AF5F6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BEFB-E19F-47D3-BE36-F64BBEF8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424D-A968-4D52-98AC-86D6C23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7E11-6AC4-40EB-A282-460802D5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FDF0-2185-42C4-89EE-06B52555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5ADB-CC14-4936-AA28-F02CFD8F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C1E-D9C1-4453-9BBF-8AE6FBCD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4E9-29D7-4D6B-AD22-1CE245C3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E51-0D0D-455C-A9EF-321A600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258-3CF2-4FF4-86AF-2A94F447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758-AB01-459D-A8AA-4476391B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CEF-B88E-43DF-ADC1-3C3F11A2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C1F-DDB0-40BD-9EF5-0AC5408E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5F9F-6FF3-4A91-8026-64980161EA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7FF0-C336-477A-AD99-0D4007A517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134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Тема: Возведение в степень произведения и степени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Повторе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е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полните пропуски так, чтобы утверждения были вер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возведение в степень положительного числа получается  _______________________ чис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тепень отрицательного числа с четным показателем ___________ числ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тепень отрицательного числа с нечетным показателем __________ числ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умножении степеней с __________     основание _____________________________,  а показатели степеней ________________________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делении степеней с _____________ основание ____________, а из показателя степени  делимого 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________________________________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84240"/>
            <a:ext cx="864216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Свойства степен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люб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роизвольных натуральных чис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любого числ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0 и произвольных натуральных чис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х, чт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&gt;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ых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извольного натуральн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b)=a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извольных натуральных чисел       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)=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11280" y="206064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71640" y="206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4360" y="3500280"/>
                <a:ext cx="2156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71640" y="35002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92360" y="35002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332000" y="3500280"/>
                <a:ext cx="2156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47640" y="3573360"/>
                <a:ext cx="12708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58920" y="2060640"/>
                <a:ext cx="21600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06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76360" y="206064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26920" y="4365720"/>
                <a:ext cx="1969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87280" y="4437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03280" y="4437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48360" y="530064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80000" y="530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84360" y="573408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87280" y="5734080"/>
                <a:ext cx="21600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900000" y="57340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03280" y="57340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Итог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йдите ошибк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x=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: a=a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y)=y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)=a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16000" y="24210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692360" y="24210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135160" y="2349360"/>
                <a:ext cx="18432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042920" y="3213000"/>
                <a:ext cx="185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403280" y="3213000"/>
                <a:ext cx="195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87280" y="4221000"/>
                <a:ext cx="17496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32000" y="4221000"/>
                <a:ext cx="166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5280" y="4149720"/>
                <a:ext cx="183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47640" y="5013360"/>
                <a:ext cx="1508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8000" y="5013360"/>
                <a:ext cx="1508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24000" y="3213000"/>
                <a:ext cx="195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6:01:35Z</dcterms:created>
  <dc:creator>Loner-XP</dc:creator>
  <dc:description/>
  <dc:language>en-US</dc:language>
  <cp:lastModifiedBy>Loner-XP</cp:lastModifiedBy>
  <dcterms:modified xsi:type="dcterms:W3CDTF">2012-12-06T17:53:38Z</dcterms:modified>
  <cp:revision>11</cp:revision>
  <dc:subject/>
  <dc:title>Слайд 1</dc:title>
</cp:coreProperties>
</file>